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5.png" ContentType="image/png"/>
  <Override PartName="/ppt/media/image21.gif" ContentType="image/gif"/>
  <Override PartName="/ppt/media/EUSOUB.wav" ContentType="audio/x-wav"/>
  <Override PartName="/ppt/media/image23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E13-1A22-4A50-B52F-44BBBA62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1CB-CDF4-4856-A485-F46637B9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7E236-19A1-4BE6-8DD1-2D3A7DC0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50BF2-7A0A-4D03-BDCD-01A45E52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B34FC-EE27-44DB-B859-BA741998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DFA1B-1152-46AB-86EF-C544176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85227-C662-4AB5-83E6-6E46676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B7EAE-A61E-4B7A-A122-A2B71F9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0D78D-4221-4820-836B-41FC28C8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A954D-4B7F-417F-AC64-7A661AEA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2EE67-083C-42D9-B33E-814D5018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104B3-D526-4D04-A884-35C3F8C6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037-5927-4CEA-AE0A-6EED4498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16727-79A0-4543-B329-17408580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625F5-1EFE-4FE7-A23F-7FBB2CBB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AB5B9-3FF9-476F-B4B6-553EB122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07A91-2F24-41F3-83F9-9A5E4F2E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02DED-9E27-46C7-94F0-D10A42C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49F71-D2B4-4C58-81FD-E64F962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E139C-85A1-4AE4-8710-9BAA963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FA78F-A224-43B1-90F9-4FFCE02B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9BAF4-F6C2-4AA1-9281-45DAF9DC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98CC6-C949-48AF-AB99-FF798E32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584-4833-4C1F-B214-B2372575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D27B7-C8A8-42BD-BD17-34CFA5E4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A6C8D-7987-4861-85CE-9081A240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FDB7C-1499-41EA-8A8A-D0EB443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061EB-9C48-4006-9580-860400E4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0AE94-7FC0-4A35-9395-05755492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FEAAA-597F-434C-B927-EE3EFDB5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9F401-3378-492F-9C6E-B8C4CB96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AAC7A-E489-49C5-A9B0-FBA1BAD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2C765-4F5A-4CF2-ADB0-CD8A48F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455CA-FDBF-4F16-8A7B-AF40984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C2B-0CA3-4BB2-80A6-165407FE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5A2D-78E5-4E16-BE34-A8C6F7C1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AE3A4-316C-4C94-892F-BA3B54F5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BD5EE-6FD9-4A80-8594-DD7C2654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3F388-29AD-49CA-B252-D94061C0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CF810-3DC4-4ED1-BE84-9720E694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BC03A-9B97-48FC-A1E6-D25FC4E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CD01D-8EBF-4470-8E22-445AB34F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5A9DC-7D81-4EED-8E05-55D93EB0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4BAA1-3D85-477C-92A1-0227618A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158D1-AC02-441A-AB90-E232879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04B7-1A26-499C-B459-C26F387C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F237E-63EC-4A71-8B98-433D0A5B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293E0-47A9-45FD-B286-9C4C40F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3F0CF-833F-47FF-8F41-CBF6E321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5342B-5951-4F38-A083-6F546370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AB1CE-EEB9-4781-90C2-ACCC99C2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66EE-770E-4FFD-9E0A-4C31DE22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99F-4553-4CC8-A0DF-E2DFFC5B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C159-7DFA-43B1-8EC2-621A87F4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00E-1170-4D64-BAA2-2F99BB7B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29EB-0A6C-4C34-900A-847D12B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DB4-AFA8-4604-845C-21BEAD7C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05C3-FF5B-441F-BE81-CC5BB69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33FC-6396-4318-84EE-7DF98855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3E0-28CA-4DDE-A2DD-892341D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312D-2A00-4ED6-A3E3-32A66B48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28A-3DD1-4D07-8AB4-30AE9D51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E84A-FE49-4A9B-9CCC-0C9C5FBC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B847-01E8-45DF-A705-93A85240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5FED-51BD-4640-BBFB-99C7B793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9A08-8C8E-4E98-BD68-23400CD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E955-7CF3-426D-92AD-8C28FBC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D2C-CD31-46EB-ACE0-E4C4E13F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72E5-E9B7-4253-BC33-482EB3BA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E469-ED15-4C24-8221-97C7497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CB74-32E4-4E0D-8D1C-AA1519D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8CEE-8BE4-426F-A1A0-E5EDD2B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A974-D8E0-44C4-9873-D72F908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5761-71BF-4D86-849F-44BB6AE8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79CA-9648-4C88-AE16-91B63B55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8EEA-F5BE-40A2-B202-2346935F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EE48-6672-4C99-9F4C-330718C6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21C3-5DED-4BF5-9004-95E96D7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724-0200-4C26-A678-3B9F8D33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7C30-5B65-47A8-AE47-DDAB6B9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6048-5B75-45DD-B0B8-F3F65E81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0125-25A0-4148-96EF-9039B7AB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4118-B852-4491-B2C4-4A0B356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4299-A826-49D3-918B-6B762D84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3B49-4BBF-45E5-A3F6-12009DC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6A8C-1D38-40A8-B51F-5A89E66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75D0-EBEF-4A47-B766-6F86A5DB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A2DF-43E7-40B7-AF63-DE2B3A5D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542CD-B7FF-4FBD-933B-8B4A5153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583-3FEF-45A4-90D4-80298346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AE5EA-6499-44DB-A81B-3D1BC37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09C42-47FE-49C0-AC13-16CEC4CE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388D-F9B8-4449-9B42-29B4213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FC6E-4EFF-42C9-9D96-5A95E095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BF499-D419-49E7-A947-64027B08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7A3B-8970-4067-8C67-9FBAA8A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9836-44F8-472D-8E1F-D22DFB4A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7BF4-5CCA-4F21-B221-73CDFF8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C791C-D0B6-4A9D-B23E-DE04CCEF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3CC7-CC7A-472D-A6A9-87083FED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66C-C2D9-4A64-A49C-57F84D26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FE16B-0FC2-4F8A-896B-008712E7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3231-0C60-4E27-9D1B-6F58FA66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8ABD-9EDD-4870-AF76-812B8BBB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DE962-40CA-4187-9995-51271160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B20F4-D53E-410F-8999-F4C7E576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702B6-A915-44F2-8890-11E84F76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72D0-D6E7-479A-A131-40477847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17459-AC32-43D5-A0E3-6A9B416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CCE2-F14C-4766-BD8E-5E1EE9E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CCA59-F345-4062-AE84-BB18C49D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8BE-0D10-4A09-872B-95CDE7CC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805AA-4FFC-4A06-A3FE-7483502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B5CD4-E419-4200-A76F-FD1181BD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F3A4-6F29-4576-B3EA-905C4056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F18A-0837-4803-B7C2-E0AB24E9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275E1-0F69-4DC6-B318-20999EDF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1C500-8DDB-4D67-8968-D07732C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A6F07-A27E-4452-9666-C5790FED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C2828-F97F-4796-A393-20F166A6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B8CD-4E5F-4784-8EF1-230EFD7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F5ABC-0483-494F-A872-6877BC9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471-EA8C-41F3-9903-81026E1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B7E02-4059-4C85-AD04-6B93971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DA5F5-41DD-4586-A3EB-6EC79752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1720-58B7-48E9-B5DB-F8315C42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17451-6185-4239-BCA2-9DB4E6D1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43ABC-1981-458A-BAB4-0820DEB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BAC31-08BF-4F88-A9D8-F8A5C76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CD60-B9AF-478E-8DF3-3CE901B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9FC3B-0828-4322-8783-CB5BDB86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65442-B4B8-49D3-BC1E-2F9444CA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8B0CA-5416-42F9-802E-6ABBCAA0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EDA-F236-403C-B744-EB396DEF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AE356-7687-4472-B6F3-329BDFD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AE4F-A2E8-4C37-833A-D61E5B50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93F96-D160-4918-AC0D-4E17F51E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92D2-83B4-41B7-9098-CBE0F21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6DAE-ED6F-4B30-957D-443DDFEC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362D1-A751-4043-9BB5-099C8A9C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6E5C0-62A5-4A06-ADE2-4E0446AD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3BE9E-9A1A-4C64-BEDA-0803FACA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7A0F3-9739-463C-9D27-9401EE8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639BD-C4F0-4D29-BD5D-66838F7E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180-7486-4B72-8B01-AC6428406C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1DCC-9E45-4555-A905-566B545B33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C347-2EA0-4CC1-8FF6-E4E00E413E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3666-CF9A-4F1C-807C-F86796B0AA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BBCD-E557-41F4-8CA8-0D2D4E649C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D00F-B31A-4777-B88C-D9381AEE4E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18E-50EA-4273-937F-D6CBC05918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38B2-1B35-4FF0-84B6-1335D3E4C4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9DB3-B629-4BF1-85F1-9211575219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94BA-9304-494C-95EE-8D5399B63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6C5B-82C3-4F56-A765-D00744D59B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D101-1F95-4837-93CF-A6744C4439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audio" Target="../media/EUSOUB.wav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EUSOUB.wav"/><Relationship Id="rId5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g13a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sea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2"/>
          <p:cNvSpPr/>
          <p:nvPr/>
        </p:nvSpPr>
        <p:spPr>
          <a:xfrm>
            <a:off x="3145680" y="1071720"/>
            <a:ext cx="245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方正舒体"/>
                <a:ea typeface="方正舒体"/>
              </a:rPr>
              <a:t>观    潮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4644720" y="3429000"/>
            <a:ext cx="8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7315200" y="0"/>
            <a:ext cx="4267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cc"/>
                </a:solidFill>
                <a:latin typeface="隶书"/>
                <a:ea typeface="隶书"/>
              </a:rPr>
              <a:t>观    潮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6447960" y="2708280"/>
            <a:ext cx="91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周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8" descr="0grxynzk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"/>
          <p:cNvSpPr/>
          <p:nvPr/>
        </p:nvSpPr>
        <p:spPr>
          <a:xfrm>
            <a:off x="3820680" y="1000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作者简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0" y="242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作者周密，字公谨，号草窗。原籍济南，后迁吴兴（今属浙江）。南宋文学家。宋末曾做过义乌县官等职，宋灭之后不再做官。他的诗文都有成就，又能书画。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观潮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选自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武林旧事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，是他进入元朝后所写。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1828440" y="244944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zxxkw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78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WordArt 2" descr=""/>
          <p:cNvPicPr/>
          <p:nvPr/>
        </p:nvPicPr>
        <p:blipFill>
          <a:blip r:embed="rId1"/>
          <a:stretch/>
        </p:blipFill>
        <p:spPr>
          <a:xfrm>
            <a:off x="781200" y="304920"/>
            <a:ext cx="747216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2"/>
          <p:cNvSpPr/>
          <p:nvPr/>
        </p:nvSpPr>
        <p:spPr>
          <a:xfrm>
            <a:off x="642960" y="2071800"/>
            <a:ext cx="878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京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尹     </a:t>
            </a:r>
            <a:r>
              <a:rPr b="1" sz="2800" spc="-1" strike="noStrike">
                <a:solidFill>
                  <a:srgbClr val="0070c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ĭ</a:t>
            </a:r>
            <a:r>
              <a:rPr b="1" sz="2800" spc="-1" strike="noStrike">
                <a:solidFill>
                  <a:srgbClr val="0070c0"/>
                </a:solidFill>
                <a:latin typeface="Times New Roman"/>
              </a:rPr>
              <a:t>n   </a:t>
            </a:r>
            <a:r>
              <a:rPr b="1" sz="2800" spc="-1" strike="noStrike">
                <a:solidFill>
                  <a:srgbClr val="ff66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骑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j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艨艟 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méng  chōng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qiú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迹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gě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迎而上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s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</a:rPr>
              <a:t>珠翠罗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绮 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qǐ         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僦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幕 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jiù  lì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虽席地不容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jiā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"/>
          <p:cNvSpPr/>
          <p:nvPr/>
        </p:nvSpPr>
        <p:spPr>
          <a:xfrm>
            <a:off x="3143160" y="78588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字词积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1643040" y="2000160"/>
            <a:ext cx="5124600" cy="15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再读课文，自悟意思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1787400" y="12859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295280" y="304920"/>
            <a:ext cx="64008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重点词语理解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下之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既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至十八日为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海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银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则玉城雪岭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际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吞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6084720" y="1197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景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6858000" y="2133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农历十六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5257800" y="3200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…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731520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发、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4267080" y="40384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仅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662940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连接着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4191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水淋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295280" y="304920"/>
            <a:ext cx="784872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京尹出浙江亭教阅水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既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奔腾合五阵之势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并有乘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骑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旗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枪舞刀于水面者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平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倏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黄烟四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睹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随波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8305920" y="380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723888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穷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059280" y="26668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733920" y="2666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舞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49528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02920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踩，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410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忽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257800" y="4952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点儿也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4648320" y="58672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295280" y="380880"/>
            <a:ext cx="59436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吴儿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者数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皆披发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出没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鲸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万仞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珠翠罗绮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目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饮食百物皆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常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僦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虽席地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容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6019920" y="457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游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556272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画花纹，动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6400800" y="2286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巨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5715000" y="3276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708660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518148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租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6019920" y="6019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许，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457200" y="1890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878de"/>
                </a:solidFill>
                <a:latin typeface="Tahoma"/>
                <a:ea typeface="隶书"/>
              </a:rPr>
              <a:t>用现代汉语翻译下列句子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539640" y="415800"/>
            <a:ext cx="8604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浙江之潮，天下之伟观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烟消波静，则一舸无迹，仅有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敌船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隶书"/>
              </a:rPr>
              <a:t>”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为火所焚，         随波而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腾身百变，而旗尾略不沾湿，以此夸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珠翠罗绮溢目，车马塞途，饮食百物皆倍穹常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900000" y="162864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钱塘江的涌潮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,(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世上伟大的景象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539640" y="30686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烟雾消失，水波平静下来，就一条船也没有了，仅仅剩下敌人的船只被火烧毁，随波漂流逐渐消失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684360" y="450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腾起身子，变换着种种姿势，而那彩旗末梢却一点不湿，他们就是以此来夸耀自己的本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539640" y="58993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头戴珠翠首饰，身穿绮罗衣裳的游人满目皆是，车马堵塞了道路，饮食百货价格都比平常高出一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0" y="1357200"/>
            <a:ext cx="93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钱塘江的潮水是天下伟大的奇观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从农历十六日到十八日是最高潮的时候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当潮远远地从钱塘江入海口处涌来的时候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仅仅像一条银线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;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接着渐渐靠近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就像玉城雪岭一样连天涌来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声音大得像雷声轰鸣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波涛汹涌澎湃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震撼人心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浪花冲刷岸边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好像要吞掉天空给太阳洗个澡一样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气势极其雄壮豪迈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杨诚斋的诗说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海浪涌起来的时候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像银子砌成的城郭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浙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矩形 3"/>
          <p:cNvSpPr/>
          <p:nvPr/>
        </p:nvSpPr>
        <p:spPr>
          <a:xfrm>
            <a:off x="2286000" y="1012680"/>
            <a:ext cx="4572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2607120" y="285840"/>
            <a:ext cx="339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课文翻译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潮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3"/>
          <p:cNvSpPr/>
          <p:nvPr/>
        </p:nvSpPr>
        <p:spPr>
          <a:xfrm>
            <a:off x="1332000" y="6937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潮来前：人山人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3"/>
          <p:cNvSpPr/>
          <p:nvPr/>
        </p:nvSpPr>
        <p:spPr>
          <a:xfrm>
            <a:off x="0" y="0"/>
            <a:ext cx="820728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横着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潮水给它系上一条白玉的腰带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就是指这样的景象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每年阴历十八，京都临安府长官来到浙江亭校阅水军，数百条战船分列两岸；然后演习五阵的阵势，忽而疾驶，忽而腾起，忽而分，忽而合，极尽种种变化。同时有在水面上骑马，舞旗，举枪，挥刀 的人，好像踩在平地上一样。忽然黄烟四起，人和物一点儿也看不见了，只听见水军用的一种爆炸武器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发出轰隆隆的声响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声音就像山崩地裂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一会儿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烟雾消失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波涛平静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一条船的踪影也没有了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只有假设的敌方的战船被火烧毁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2228b"/>
                </a:solidFill>
                <a:latin typeface="宋体"/>
              </a:rPr>
              <a:t>随着波浪漂去</a:t>
            </a:r>
            <a:r>
              <a:rPr b="1" lang="en-US" sz="3200" spc="-1" strike="noStrike">
                <a:solidFill>
                  <a:srgbClr val="22228b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1"/>
          <p:cNvSpPr/>
          <p:nvPr/>
        </p:nvSpPr>
        <p:spPr>
          <a:xfrm>
            <a:off x="0" y="0"/>
            <a:ext cx="914400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几百个善于泅水的吴中健儿，披散着头发，浑身刺着花绣，手里拿着十幅大彩旗，争相奋力逆流迎潮而上，（他们的身影）在万仞高的惊涛骇浪中浮沉，翻腾着身子变换着各种姿态，而旗尾却一点也不被水沾湿，凭借这种（表演）来显示他们（高超）的技能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江岸上下几十里间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满眼是带着首饰的妇女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穿着华丽衣裳的游人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车马堵塞了道路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吃的用的各种东西都比平时贵了一倍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租用看棚的人非常多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宋体"/>
              </a:rPr>
              <a:t>即使是一席之地也不会空下来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2857680" y="0"/>
            <a:ext cx="35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整体感知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826920" y="9079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章写了哪些内容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文分为四个自然段，请同学们概括出每一段的大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116000" y="2205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写海潮的雄伟壮观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87280" y="2997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写水军演习的精彩场面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332000" y="4005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写弄潮健儿的英姿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403280" y="5084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写观潮人数之多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chatu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6" name="TextBox 2" descr=""/>
          <p:cNvPicPr/>
          <p:nvPr/>
        </p:nvPicPr>
        <p:blipFill>
          <a:blip r:embed="rId2"/>
          <a:stretch/>
        </p:blipFill>
        <p:spPr>
          <a:xfrm>
            <a:off x="920880" y="2401920"/>
            <a:ext cx="7516800" cy="884160"/>
          </a:xfrm>
          <a:prstGeom prst="rect">
            <a:avLst/>
          </a:prstGeom>
          <a:ln w="0">
            <a:noFill/>
          </a:ln>
        </p:spPr>
      </p:pic>
      <p:pic>
        <p:nvPicPr>
          <p:cNvPr id="577" name="矩形 3" descr=""/>
          <p:cNvPicPr/>
          <p:nvPr/>
        </p:nvPicPr>
        <p:blipFill>
          <a:blip r:embed="rId3"/>
          <a:stretch/>
        </p:blipFill>
        <p:spPr>
          <a:xfrm>
            <a:off x="-41400" y="2743200"/>
            <a:ext cx="9539280" cy="2000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"/>
          <p:cNvPicPr/>
          <p:nvPr/>
        </p:nvPicPr>
        <p:blipFill>
          <a:blip r:embed="rId4"/>
          <a:stretch/>
        </p:blipFill>
        <p:spPr>
          <a:xfrm>
            <a:off x="83581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JSK16-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2627280" y="1125360"/>
            <a:ext cx="6095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句“浙江之潮，天下之伟观也。”在全文中有什么作用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708360" y="2852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总起全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5"/>
          <p:cNvSpPr txBox="1"/>
          <p:nvPr/>
        </p:nvSpPr>
        <p:spPr>
          <a:xfrm>
            <a:off x="3132000" y="26028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第一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g13c1024"/>
          <p:cNvPicPr/>
          <p:nvPr/>
        </p:nvPicPr>
        <p:blipFill>
          <a:blip r:embed="rId1"/>
          <a:stretch/>
        </p:blipFill>
        <p:spPr>
          <a:xfrm>
            <a:off x="0" y="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395280" y="213372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者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形状、颜色、声音、气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四个方面对钱塘江潮水进行了描绘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请说出下面句子或词语是描写潮水的哪些方面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539640" y="45086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仅如银线  玉城雪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4427640" y="43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形、色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684360" y="5157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声如雷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132000" y="5157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声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838080" y="5334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684360" y="5734080"/>
            <a:ext cx="66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震撼激射，吞天沃日，势极雄豪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6659640" y="5805360"/>
            <a:ext cx="16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势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2124000" y="404640"/>
            <a:ext cx="56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3"/>
          <p:cNvSpPr txBox="1"/>
          <p:nvPr/>
        </p:nvSpPr>
        <p:spPr>
          <a:xfrm>
            <a:off x="3132000" y="26028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第一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1042920" y="1413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从哪几个方面进行了正面描绘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7667640" y="4508640"/>
            <a:ext cx="100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7740720" y="5157720"/>
            <a:ext cx="100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g13a1006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1403280" y="1484280"/>
            <a:ext cx="7416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文章是按照什么顺序来写潮水的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352680" y="2708280"/>
            <a:ext cx="33800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远到近的顺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WordArt 6"/>
          <p:cNvSpPr txBox="1"/>
          <p:nvPr/>
        </p:nvSpPr>
        <p:spPr>
          <a:xfrm>
            <a:off x="3132000" y="26028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第一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背景30"/>
          <p:cNvPicPr/>
          <p:nvPr/>
        </p:nvPicPr>
        <p:blipFill>
          <a:blip r:embed="rId1"/>
          <a:stretch/>
        </p:blipFill>
        <p:spPr>
          <a:xfrm>
            <a:off x="3636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HUDEI2"/>
          <p:cNvPicPr/>
          <p:nvPr/>
        </p:nvPicPr>
        <p:blipFill>
          <a:blip r:embed="rId2"/>
          <a:stretch/>
        </p:blipFill>
        <p:spPr>
          <a:xfrm>
            <a:off x="1447920" y="4952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HUDEI2"/>
          <p:cNvPicPr/>
          <p:nvPr/>
        </p:nvPicPr>
        <p:blipFill>
          <a:blip r:embed="rId3"/>
          <a:stretch/>
        </p:blipFill>
        <p:spPr>
          <a:xfrm>
            <a:off x="7543800" y="30481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1619280" y="1341360"/>
            <a:ext cx="684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水军演习写得扣人心弦，水军表演的精彩之处表现在哪里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1547640" y="4149720"/>
            <a:ext cx="7274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场惊心动魄的演习，却结束在“烟消波散”的静景中，这采用的什么写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WordArt 7"/>
          <p:cNvSpPr txBox="1"/>
          <p:nvPr/>
        </p:nvSpPr>
        <p:spPr>
          <a:xfrm>
            <a:off x="3132000" y="26028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第二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2916360" y="5373720"/>
            <a:ext cx="1944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静衬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971640" y="2492280"/>
            <a:ext cx="817236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参加演习的船只众多；  演习中阵势变化多样；水兵作战技艺娴熟；演习中战斗激烈，声势浩大；演习结束后撤退迅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gc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501120" cy="7126200"/>
          </a:xfrm>
          <a:prstGeom prst="rect">
            <a:avLst/>
          </a:prstGeom>
          <a:ln w="0">
            <a:noFill/>
          </a:ln>
        </p:spPr>
      </p:pic>
      <p:pic>
        <p:nvPicPr>
          <p:cNvPr id="612" name="TextBox 2" descr=""/>
          <p:cNvPicPr/>
          <p:nvPr/>
        </p:nvPicPr>
        <p:blipFill>
          <a:blip r:embed="rId2"/>
          <a:stretch/>
        </p:blipFill>
        <p:spPr>
          <a:xfrm>
            <a:off x="633240" y="506520"/>
            <a:ext cx="7304400" cy="1023840"/>
          </a:xfrm>
          <a:prstGeom prst="rect">
            <a:avLst/>
          </a:prstGeom>
          <a:ln w="0">
            <a:noFill/>
          </a:ln>
        </p:spPr>
      </p:pic>
      <p:sp>
        <p:nvSpPr>
          <p:cNvPr id="613" name="TextBox 4"/>
          <p:cNvSpPr/>
          <p:nvPr/>
        </p:nvSpPr>
        <p:spPr>
          <a:xfrm>
            <a:off x="0" y="2214720"/>
            <a:ext cx="94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三段中哪些句子描写了壮士形象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0" y="3929040"/>
            <a:ext cx="13655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披发文身”、“手持大旗”、“争先鼓勇”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写出了壮士形象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g13c1028"/>
          <p:cNvPicPr/>
          <p:nvPr/>
        </p:nvPicPr>
        <p:blipFill>
          <a:blip r:embed="rId1"/>
          <a:stretch/>
        </p:blipFill>
        <p:spPr>
          <a:xfrm>
            <a:off x="-927000" y="-498600"/>
            <a:ext cx="11142720" cy="8356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"/>
          <p:cNvPicPr/>
          <p:nvPr/>
        </p:nvPicPr>
        <p:blipFill>
          <a:blip r:embed="rId2"/>
          <a:stretch/>
        </p:blipFill>
        <p:spPr>
          <a:xfrm>
            <a:off x="835812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4"/>
          <p:cNvSpPr/>
          <p:nvPr/>
        </p:nvSpPr>
        <p:spPr>
          <a:xfrm>
            <a:off x="5638680" y="3581280"/>
            <a:ext cx="2895840" cy="1295640"/>
          </a:xfrm>
          <a:prstGeom prst="flowChartPunchedTape">
            <a:avLst/>
          </a:prstGeom>
          <a:solidFill>
            <a:srgbClr val="ff00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357120" y="1928880"/>
            <a:ext cx="7131240" cy="1312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溯迎而上”“腾身百变，而旗尾略不沾湿”，更突出了勇士的本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6"/>
          <p:cNvSpPr/>
          <p:nvPr/>
        </p:nvSpPr>
        <p:spPr>
          <a:xfrm flipH="1">
            <a:off x="5572080" y="4572000"/>
            <a:ext cx="76320" cy="167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042920" y="620640"/>
            <a:ext cx="590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1702440" y="142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节中哪些语句突出了勇士逆潮游泳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超本领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4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3"/>
          <p:cNvSpPr/>
          <p:nvPr/>
        </p:nvSpPr>
        <p:spPr>
          <a:xfrm>
            <a:off x="1523880" y="83808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潮来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Object 2"/>
          <p:cNvGraphicFramePr/>
          <p:nvPr/>
        </p:nvGraphicFramePr>
        <p:xfrm>
          <a:off x="0" y="-299880"/>
          <a:ext cx="9144000" cy="71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99880"/>
                    <a:ext cx="9144000" cy="71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4" name="Picture 3" descr="背景2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4"/>
          <p:cNvSpPr/>
          <p:nvPr/>
        </p:nvSpPr>
        <p:spPr>
          <a:xfrm>
            <a:off x="468360" y="765000"/>
            <a:ext cx="828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珠翠罗绮溢目，车马塞途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虽席地不容闲也。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说明了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WordArt 5"/>
          <p:cNvSpPr txBox="1"/>
          <p:nvPr/>
        </p:nvSpPr>
        <p:spPr>
          <a:xfrm>
            <a:off x="3348000" y="0"/>
            <a:ext cx="280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第四节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79280" y="328464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写观潮的人多，对描写潮水有什么作用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250920" y="4508640"/>
            <a:ext cx="71276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从侧面衬托江潮之盛和水上表演之精彩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1116000" y="2349360"/>
            <a:ext cx="453708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说明观潮人数之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矩形 1"/>
          <p:cNvSpPr/>
          <p:nvPr/>
        </p:nvSpPr>
        <p:spPr>
          <a:xfrm>
            <a:off x="2286000" y="2951280"/>
            <a:ext cx="457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6" descr="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"/>
          <p:cNvSpPr/>
          <p:nvPr/>
        </p:nvSpPr>
        <p:spPr>
          <a:xfrm>
            <a:off x="3993480" y="1000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总结全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4"/>
          <p:cNvSpPr/>
          <p:nvPr/>
        </p:nvSpPr>
        <p:spPr>
          <a:xfrm>
            <a:off x="0" y="2143080"/>
            <a:ext cx="4388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浙江潮雄伟壮观，水上表演头绪纷繁、场面众多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观潮者人群如潮，但在文中，作者却写得井然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序，主次分明。这一方面是由于作者构思精巧，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海潮为线索，写景记事相融合，正面描写与侧面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托相结合；另一方面也是由于作者借墨如金，用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十分简练的结果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250920" y="9079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d1303"/>
                </a:solidFill>
                <a:latin typeface="Tahoma"/>
                <a:ea typeface="隶书"/>
              </a:rPr>
              <a:t>把下面这首宋词改写成一篇记叙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609480" y="1905120"/>
            <a:ext cx="769644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酒泉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[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宋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]</a:t>
            </a:r>
            <a:r>
              <a:rPr b="1" lang="zh-CN" sz="2800" spc="-1" strike="noStrike">
                <a:solidFill>
                  <a:srgbClr val="333300"/>
                </a:solidFill>
                <a:latin typeface="隶书"/>
                <a:ea typeface="隶书"/>
              </a:rPr>
              <a:t>潘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隶书"/>
                <a:ea typeface="隶书"/>
              </a:rPr>
              <a:t>长忆观潮，满郭人争江上望。来疑沧海尽成空，万面鼓声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隶书"/>
                <a:ea typeface="隶书"/>
              </a:rPr>
              <a:t>弄潮儿向涛头立，手把红旗旗不湿。别来几向梦中看，梦觉尚心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059280" y="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延伸阅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1905120" y="1523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3809880" y="487692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Times New Roman"/>
              </a:rPr>
              <a:t>闷雷滚动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潮2"/>
          <p:cNvPicPr/>
          <p:nvPr/>
        </p:nvPicPr>
        <p:blipFill>
          <a:blip r:embed="rId1"/>
          <a:stretch/>
        </p:blipFill>
        <p:spPr>
          <a:xfrm>
            <a:off x="0" y="285840"/>
            <a:ext cx="9601200" cy="65721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609480" y="4038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形成一道白色城墙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2"/>
          <a:stretch/>
        </p:blipFill>
        <p:spPr>
          <a:xfrm>
            <a:off x="8991720" y="12215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潮11"/>
          <p:cNvPicPr/>
          <p:nvPr/>
        </p:nvPicPr>
        <p:blipFill>
          <a:blip r:embed="rId1"/>
          <a:stretch/>
        </p:blipFill>
        <p:spPr>
          <a:xfrm>
            <a:off x="0" y="0"/>
            <a:ext cx="9906120" cy="68724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4267080" y="144792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犹如千万匹战马齐头并进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潮8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2487240" y="533520"/>
            <a:ext cx="26182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雄伟壮观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潮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3"/>
          <p:cNvSpPr/>
          <p:nvPr/>
        </p:nvSpPr>
        <p:spPr>
          <a:xfrm>
            <a:off x="1600200" y="9144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潮去时余韵犹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g13a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514" name="Text Box 3"/>
          <p:cNvSpPr/>
          <p:nvPr/>
        </p:nvSpPr>
        <p:spPr>
          <a:xfrm>
            <a:off x="3214800" y="214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钱塘江是浙江省最大的河流其入海口成喇叭状，每逢涨潮海水倒灌，水势受阻，形成著名的“钱塘潮”。波澜壮阔，气势磅礴。古人赞曰：“天下壮观无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374920" y="3571920"/>
            <a:ext cx="67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杭州在南宋时称临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国都。观潮地当时在临安城南，每年农历八月十八日举行观潮盛典。迎潮前有水军演习，潮到时又有吴地少年弄潮争标的表演，当日从宫廷到民间争相观看，万人空巷，十分热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6:20:14Z</dcterms:created>
  <dc:creator/>
  <dc:description/>
  <cp:keywords/>
  <dc:language>en-US</dc:language>
  <cp:lastModifiedBy>Administrator</cp:lastModifiedBy>
  <dcterms:modified xsi:type="dcterms:W3CDTF">2015-02-06T00:04:31Z</dcterms:modified>
  <cp:revision>109</cp:revision>
  <dc:subject/>
  <dc:title>PowerPoint 演示文稿</dc:title>
</cp:coreProperties>
</file>